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29280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991-6DB0-4B88-93C7-6DEA10B921A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270480"/>
            <a:ext cx="1130400" cy="41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0666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1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general rules for writing and preparing a research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briefly describe the major sections and writing style of a research report produced as a thesis, dissertation, or manuscript for publication in a professional jour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of the report that indicates page numbers of major sections and subs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tables and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list of tables and figures is included on a separate page with number, page numbers and title of each table or fig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lleges and universities require abstracts or summ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generally a word limit (e.g., 35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 description of the research problem or top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variables examined in the study and definitions of key terms that may not have clear universal defin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rief background and statement of significance should be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of related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view of the literature summarizes what is known about the problem or top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s NOT a series of abstracts but an integrated summ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related references are discussed first leading to the most relevant (e.g., think of a funnel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th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antitative studies a hypothesis should state the expected relations among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should flow from the literature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are defined in operational te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is test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ce of the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ignificance of the study may appear in one or more of several sections of the main body of the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Early in the introduction, at the conclusion of the literature review, with the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ncludes how participants were selected, the population they represent, sample size, and characteristics of the samp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should provide the reader with information for potential replication and to assist in judging external valid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ata collection instruments should be described fu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psychometric properties of all the instr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new instrument was developed, information regarding development and pilot testing is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s are often app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scription of the design and a rationale for the selection of the design is included in this s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based upon the selected design are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the steps that the researcher followed in conducting the study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eps are chronologically presented in enough detail to support replication of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ers may provide more information about the procedure than quantitative researc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reports are written for many purposes (e.g., thesis, dissertation, publication, to fulfill funding requiremen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reports describe what happened in the study and the results that were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ll-written report presents enough information for replication of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includes the statistical techniques and inferential interpretations applied to the data and the results of these analy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hypothesis is addressed in the results s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s and figures often accompany results sections in quantitativ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 studies report results in the form of descriptions and quotations that support the themes that emerged from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 should be taken not to overgeneralize the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s should be kept separate from the conclu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Conclusions and Recommend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ction should present the theoretical and rationale implications of th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 this section implications for future practice and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y express opinions in the discuss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ference section of the report lists all the source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should appear consistent with the required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body of the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ndi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thesis or dissertation, the appendixes usually include instruments, raw data, and materials too lengthy to include in the body of the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 for journal pub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articles are typically shorter than theses or dissert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time to familiarize yourself with various outl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appropriate jour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 for journal pub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y with the rules for the selected journal.  These may v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sh the manuscript when it is complete.  Complete another word-by-word 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are a cover letter in accord with style standards and requirements of the journal outl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is a stumbling block for many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time to write is challenging. Make a sche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ing routines helps many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riting early in th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time during data collection to revise the research pl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with an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on substantial re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ard writing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ware of personal avoidance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progress, not perf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whatever comes to mind and then revise what you have writt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, editing, and rewriting clarifies your though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ing is a critical part of the writing process. Edit your own wri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first without consideration for grammar, syntax, and punctuation.  Do not allow editing to be an avoidance strate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t the same time every day, at a time when you won’t be distur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to a friend or a parent so that you write simpl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and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with a concise and straightforward style that reflects scholarship. Be concise. Avoid jarg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your work aloud and have others read it as well. Read your work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 refers to the general pattern of organization and arrangement of the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s do vary slightly, but most follow a general temp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clude a condensed version of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yle refers to the rules of grammar, spell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lleges and universities and journal outlets follow a particular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variations among sty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styles include some similar r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Do not use abbreviations or contractions unless well-established or clearly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Numbers at beginnings of sentences are written out and numbers are written out if the number is nine or l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 manuals specify how to cite refe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a Research Repo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ting theses and disser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iminary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tle should communicate what the study is abou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others to describe what the study is about based upon your tit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knowledge those who significantly contributed to the resear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4:06:46Z</dcterms:modified>
  <cp:revision>99</cp:revision>
  <dc:subject/>
  <dc:title>AutoCAD Architecture 2008: Part I: Getting Started</dc:title>
</cp:coreProperties>
</file>